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wind.wav" ContentType="audio/x-wav"/>
  <Override PartName="/ppt/media/image12.wmf" ContentType="image/x-wmf"/>
  <Override PartName="/ppt/media/image10.gif" ContentType="image/gif"/>
  <Override PartName="/ppt/media/image11.wmf" ContentType="image/x-wmf"/>
  <Override PartName="/ppt/media/image17.jpeg" ContentType="image/jpeg"/>
  <Override PartName="/ppt/media/image6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breeze.wav" ContentType="audio/x-wav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3E0-052E-4298-81BB-E14A9BFE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32A-A6E5-4FE5-B159-11543ACD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001-1816-48BE-B9EE-5C992D5F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D2D-6B70-4B76-8806-68DB6420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12A-333A-4F83-8025-00FB7E37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F2C-E8AB-4ABC-8ECF-F1E11377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4F9-44C5-4D82-B2D9-8723E291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847-D928-400A-B470-B1413AC9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49C-AA30-406C-B22F-4CEB1B4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129-33F7-47CF-A9D6-3E8A8F4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DDF-8C37-4F42-B0DB-32A8E81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AEF-78FF-4445-BD38-631AA14A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3DCE-B8E3-48DD-97D5-C5F8E54C6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04948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1752480" cy="173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785520" cy="747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34320" y="4800600"/>
            <a:ext cx="1412640" cy="18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629400" y="2971800"/>
            <a:ext cx="179532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304920"/>
            <a:ext cx="723888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EL TIEM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1676520"/>
            <a:ext cx="8381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El tiempo de Sudamé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780" t="0" r="0" b="0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8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u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iemp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8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ma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tiemp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354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8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o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848720" y="5638680"/>
            <a:ext cx="904680" cy="44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11570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3029040" cy="247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3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006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ue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 llovie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429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011400" cy="3073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01000" y="5486400"/>
            <a:ext cx="925560" cy="11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28600" y="5486400"/>
            <a:ext cx="925560" cy="1190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21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 neva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4" name="breeze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73240" cy="2255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8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ce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vient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562360" cy="370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stá nublad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04920" y="1981080"/>
            <a:ext cx="853416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¿Qué tiempo hace ho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3:02:03Z</dcterms:created>
  <dc:creator>sip lab</dc:creator>
  <dc:description/>
  <dc:language>en-US</dc:language>
  <cp:lastModifiedBy>ghrabovecky</cp:lastModifiedBy>
  <dcterms:modified xsi:type="dcterms:W3CDTF">2008-04-16T16:42:11Z</dcterms:modified>
  <cp:revision>7</cp:revision>
  <dc:subject/>
  <dc:title>Slide 1</dc:title>
</cp:coreProperties>
</file>